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9A585-9D34-4E90-8EB2-668EA95B6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E31B4-C310-4523-A5AD-65476592C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F919D-E33E-42F9-A8A7-093D39C25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0A98E-9A5F-477E-AB49-FF570B0D1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A10FA-CD96-4434-8D5F-0EB3AFE21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D62BD-A9D4-41CF-8019-0F4E3D202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877D6-3AF2-4C57-9203-6FA212D36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59CED-6494-45E2-B034-76CC737C7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FDBF1-E40F-48A6-B7C2-E24961CFE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306E1-DB1B-447F-9494-517B5B144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63854-F625-48AD-BCDC-53C83C382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91C23-03A4-40DD-B33C-01AFAB940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A772C-1867-48BD-BD46-3681BF0640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1.jpeg"/><Relationship Id="rId6" Type="http://schemas.openxmlformats.org/officeDocument/2006/relationships/image" Target="../media/image2.jpeg"/><Relationship Id="rId7" Type="http://schemas.openxmlformats.org/officeDocument/2006/relationships/image" Target="../media/image1.jpeg"/><Relationship Id="rId8" Type="http://schemas.openxmlformats.org/officeDocument/2006/relationships/image" Target="../media/image2.jpe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3.png"/><Relationship Id="rId6" Type="http://schemas.openxmlformats.org/officeDocument/2006/relationships/image" Target="../media/image4.jpeg"/><Relationship Id="rId7" Type="http://schemas.openxmlformats.org/officeDocument/2006/relationships/image" Target="../media/image3.png"/><Relationship Id="rId8" Type="http://schemas.openxmlformats.org/officeDocument/2006/relationships/image" Target="../media/image4.jpe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6858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34290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61722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991720" y="6858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991720" y="34290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991720" y="61722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457880" y="571680"/>
            <a:ext cx="228600" cy="228600"/>
            <a:chOff x="4457880" y="571680"/>
            <a:chExt cx="228600" cy="228600"/>
          </a:xfrm>
        </p:grpSpPr>
        <p:sp>
          <p:nvSpPr>
            <p:cNvPr id="48" name=""/>
            <p:cNvSpPr/>
            <p:nvPr/>
          </p:nvSpPr>
          <p:spPr>
            <a:xfrm>
              <a:off x="4457880" y="6858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0" y="5716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4457880" y="3314880"/>
            <a:ext cx="228600" cy="228600"/>
            <a:chOff x="4457880" y="3314880"/>
            <a:chExt cx="228600" cy="228600"/>
          </a:xfrm>
        </p:grpSpPr>
        <p:sp>
          <p:nvSpPr>
            <p:cNvPr id="51" name=""/>
            <p:cNvSpPr/>
            <p:nvPr/>
          </p:nvSpPr>
          <p:spPr>
            <a:xfrm>
              <a:off x="4457880" y="34290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572000" y="331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572000" y="331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4457880" y="6058080"/>
            <a:ext cx="228600" cy="228600"/>
            <a:chOff x="4457880" y="6058080"/>
            <a:chExt cx="228600" cy="228600"/>
          </a:xfrm>
        </p:grpSpPr>
        <p:sp>
          <p:nvSpPr>
            <p:cNvPr id="55" name=""/>
            <p:cNvSpPr/>
            <p:nvPr/>
          </p:nvSpPr>
          <p:spPr>
            <a:xfrm>
              <a:off x="4457880" y="61722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572000" y="6058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572000" y="6058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42800" y="1523880"/>
            <a:ext cx="1212840" cy="12956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2347920" y="1828800"/>
            <a:ext cx="1461960" cy="587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457200" y="914400"/>
            <a:ext cx="373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SDUH Interview Appoint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5181480" y="914400"/>
            <a:ext cx="3672000" cy="1905120"/>
            <a:chOff x="5181480" y="914400"/>
            <a:chExt cx="3672000" cy="1905120"/>
          </a:xfrm>
        </p:grpSpPr>
        <p:pic>
          <p:nvPicPr>
            <p:cNvPr id="62" name="" descr=""/>
            <p:cNvPicPr/>
            <p:nvPr/>
          </p:nvPicPr>
          <p:blipFill>
            <a:blip r:embed="rId3"/>
            <a:stretch/>
          </p:blipFill>
          <p:spPr>
            <a:xfrm>
              <a:off x="5181480" y="1523880"/>
              <a:ext cx="1212840" cy="12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" descr=""/>
            <p:cNvPicPr/>
            <p:nvPr/>
          </p:nvPicPr>
          <p:blipFill>
            <a:blip r:embed="rId4"/>
            <a:stretch/>
          </p:blipFill>
          <p:spPr>
            <a:xfrm>
              <a:off x="7086600" y="1828800"/>
              <a:ext cx="1461960" cy="5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>
              <a:off x="5348160" y="914400"/>
              <a:ext cx="3505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NSDUH Interview Appoint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442800" y="3809880"/>
            <a:ext cx="3672000" cy="1905120"/>
            <a:chOff x="442800" y="3809880"/>
            <a:chExt cx="3672000" cy="1905120"/>
          </a:xfrm>
        </p:grpSpPr>
        <p:pic>
          <p:nvPicPr>
            <p:cNvPr id="66" name="" descr=""/>
            <p:cNvPicPr/>
            <p:nvPr/>
          </p:nvPicPr>
          <p:blipFill>
            <a:blip r:embed="rId5"/>
            <a:stretch/>
          </p:blipFill>
          <p:spPr>
            <a:xfrm>
              <a:off x="442800" y="4419360"/>
              <a:ext cx="1212840" cy="12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" descr=""/>
            <p:cNvPicPr/>
            <p:nvPr/>
          </p:nvPicPr>
          <p:blipFill>
            <a:blip r:embed="rId6"/>
            <a:stretch/>
          </p:blipFill>
          <p:spPr>
            <a:xfrm>
              <a:off x="2347920" y="4724280"/>
              <a:ext cx="1461960" cy="5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609480" y="3809880"/>
              <a:ext cx="3505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NSDUH Interview Appoint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5181480" y="3809880"/>
            <a:ext cx="3672000" cy="1905120"/>
            <a:chOff x="5181480" y="3809880"/>
            <a:chExt cx="3672000" cy="1905120"/>
          </a:xfrm>
        </p:grpSpPr>
        <p:pic>
          <p:nvPicPr>
            <p:cNvPr id="70" name="" descr=""/>
            <p:cNvPicPr/>
            <p:nvPr/>
          </p:nvPicPr>
          <p:blipFill>
            <a:blip r:embed="rId7"/>
            <a:stretch/>
          </p:blipFill>
          <p:spPr>
            <a:xfrm>
              <a:off x="5181480" y="4419360"/>
              <a:ext cx="1212840" cy="12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" descr=""/>
            <p:cNvPicPr/>
            <p:nvPr/>
          </p:nvPicPr>
          <p:blipFill>
            <a:blip r:embed="rId8"/>
            <a:stretch/>
          </p:blipFill>
          <p:spPr>
            <a:xfrm>
              <a:off x="7086600" y="4724280"/>
              <a:ext cx="1461960" cy="5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"/>
            <p:cNvSpPr/>
            <p:nvPr/>
          </p:nvSpPr>
          <p:spPr>
            <a:xfrm>
              <a:off x="5348160" y="3809880"/>
              <a:ext cx="3505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NSDUH Interview Appoint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6858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0" y="34290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0" y="61722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8991720" y="6858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991720" y="34290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8991720" y="61722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4457880" y="571680"/>
            <a:ext cx="228600" cy="228600"/>
            <a:chOff x="4457880" y="571680"/>
            <a:chExt cx="228600" cy="228600"/>
          </a:xfrm>
        </p:grpSpPr>
        <p:sp>
          <p:nvSpPr>
            <p:cNvPr id="80" name=""/>
            <p:cNvSpPr/>
            <p:nvPr/>
          </p:nvSpPr>
          <p:spPr>
            <a:xfrm>
              <a:off x="4457880" y="6858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572000" y="5716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4457880" y="3314880"/>
            <a:ext cx="228600" cy="228600"/>
            <a:chOff x="4457880" y="3314880"/>
            <a:chExt cx="228600" cy="228600"/>
          </a:xfrm>
        </p:grpSpPr>
        <p:sp>
          <p:nvSpPr>
            <p:cNvPr id="83" name=""/>
            <p:cNvSpPr/>
            <p:nvPr/>
          </p:nvSpPr>
          <p:spPr>
            <a:xfrm>
              <a:off x="4457880" y="34290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72000" y="331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572000" y="331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" name=""/>
          <p:cNvGrpSpPr/>
          <p:nvPr/>
        </p:nvGrpSpPr>
        <p:grpSpPr>
          <a:xfrm>
            <a:off x="4457880" y="6058080"/>
            <a:ext cx="228600" cy="228600"/>
            <a:chOff x="4457880" y="6058080"/>
            <a:chExt cx="228600" cy="228600"/>
          </a:xfrm>
        </p:grpSpPr>
        <p:sp>
          <p:nvSpPr>
            <p:cNvPr id="87" name=""/>
            <p:cNvSpPr/>
            <p:nvPr/>
          </p:nvSpPr>
          <p:spPr>
            <a:xfrm>
              <a:off x="4457880" y="61722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572000" y="6058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572000" y="6058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66600" y="826920"/>
            <a:ext cx="4114800" cy="2602080"/>
            <a:chOff x="66600" y="826920"/>
            <a:chExt cx="4114800" cy="2602080"/>
          </a:xfrm>
        </p:grpSpPr>
        <p:sp>
          <p:nvSpPr>
            <p:cNvPr id="91" name=""/>
            <p:cNvSpPr/>
            <p:nvPr/>
          </p:nvSpPr>
          <p:spPr>
            <a:xfrm>
              <a:off x="66600" y="826920"/>
              <a:ext cx="4114800" cy="185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spcBef>
                  <a:spcPts val="1125"/>
                </a:spcBef>
                <a:spcAft>
                  <a:spcPts val="113"/>
                </a:spcAft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Interview Appoint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spcBef>
                  <a:spcPts val="689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00"/>
                  </a:solidFill>
                  <a:latin typeface="Times New Roman"/>
                </a:rPr>
                <a:t>Just a reminder:</a:t>
              </a: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appreciate you taking time for this important study and look forward to our appointment to complete the interview. A $30 cash payment will be given to you upon completion of the survey! </a:t>
              </a:r>
              <a:br>
                <a:rPr sz="1100"/>
              </a:b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have you scheduled for the following: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y: 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e: __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ime: 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ield Interviewer:  _____________________________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838080" y="2982960"/>
              <a:ext cx="251460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Institu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Park, NC 27709-219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3" name="" descr=""/>
            <p:cNvPicPr/>
            <p:nvPr/>
          </p:nvPicPr>
          <p:blipFill>
            <a:blip r:embed="rId1"/>
            <a:srcRect l="9899" t="0" r="9899" b="0"/>
            <a:stretch/>
          </p:blipFill>
          <p:spPr>
            <a:xfrm>
              <a:off x="3276720" y="2697120"/>
              <a:ext cx="89064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" descr=""/>
            <p:cNvPicPr/>
            <p:nvPr/>
          </p:nvPicPr>
          <p:blipFill>
            <a:blip r:embed="rId2"/>
            <a:stretch/>
          </p:blipFill>
          <p:spPr>
            <a:xfrm>
              <a:off x="76320" y="2666880"/>
              <a:ext cx="636480" cy="685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5" name=""/>
          <p:cNvGrpSpPr/>
          <p:nvPr/>
        </p:nvGrpSpPr>
        <p:grpSpPr>
          <a:xfrm>
            <a:off x="4952880" y="826920"/>
            <a:ext cx="4114800" cy="2602080"/>
            <a:chOff x="4952880" y="826920"/>
            <a:chExt cx="4114800" cy="2602080"/>
          </a:xfrm>
        </p:grpSpPr>
        <p:sp>
          <p:nvSpPr>
            <p:cNvPr id="96" name=""/>
            <p:cNvSpPr/>
            <p:nvPr/>
          </p:nvSpPr>
          <p:spPr>
            <a:xfrm>
              <a:off x="4952880" y="826920"/>
              <a:ext cx="4114800" cy="185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spcBef>
                  <a:spcPts val="1125"/>
                </a:spcBef>
                <a:spcAft>
                  <a:spcPts val="113"/>
                </a:spcAft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Interview Appoint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spcBef>
                  <a:spcPts val="689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00"/>
                  </a:solidFill>
                  <a:latin typeface="Times New Roman"/>
                </a:rPr>
                <a:t>Just a reminder:</a:t>
              </a: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appreciate you taking time for this important study and look forward to our appointment to complete the interview. A $30 cash payment will be given to you upon completion of the survey! </a:t>
              </a:r>
              <a:br>
                <a:rPr sz="1100"/>
              </a:b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have you scheduled for the following: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y: 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e: __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ime: 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ield Interviewer:  _____________________________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724360" y="2982960"/>
              <a:ext cx="251460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Institu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Park, NC 27709-219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8" name="" descr=""/>
            <p:cNvPicPr/>
            <p:nvPr/>
          </p:nvPicPr>
          <p:blipFill>
            <a:blip r:embed="rId3"/>
            <a:srcRect l="9899" t="0" r="9899" b="0"/>
            <a:stretch/>
          </p:blipFill>
          <p:spPr>
            <a:xfrm>
              <a:off x="8163000" y="2697120"/>
              <a:ext cx="89064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" descr=""/>
            <p:cNvPicPr/>
            <p:nvPr/>
          </p:nvPicPr>
          <p:blipFill>
            <a:blip r:embed="rId4"/>
            <a:stretch/>
          </p:blipFill>
          <p:spPr>
            <a:xfrm>
              <a:off x="4962600" y="2666880"/>
              <a:ext cx="636480" cy="685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0" name=""/>
          <p:cNvGrpSpPr/>
          <p:nvPr/>
        </p:nvGrpSpPr>
        <p:grpSpPr>
          <a:xfrm>
            <a:off x="4952880" y="3570120"/>
            <a:ext cx="4114800" cy="2602080"/>
            <a:chOff x="4952880" y="3570120"/>
            <a:chExt cx="4114800" cy="2602080"/>
          </a:xfrm>
        </p:grpSpPr>
        <p:sp>
          <p:nvSpPr>
            <p:cNvPr id="101" name=""/>
            <p:cNvSpPr/>
            <p:nvPr/>
          </p:nvSpPr>
          <p:spPr>
            <a:xfrm>
              <a:off x="4952880" y="3570120"/>
              <a:ext cx="4114800" cy="185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spcBef>
                  <a:spcPts val="1125"/>
                </a:spcBef>
                <a:spcAft>
                  <a:spcPts val="113"/>
                </a:spcAft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Interview Appoint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spcBef>
                  <a:spcPts val="689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00"/>
                  </a:solidFill>
                  <a:latin typeface="Times New Roman"/>
                </a:rPr>
                <a:t>Just a reminder:</a:t>
              </a: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appreciate you taking time for this important study and look forward to our appointment to complete the interview. A $30 cash payment will be given to you upon completion of the survey! </a:t>
              </a:r>
              <a:br>
                <a:rPr sz="1100"/>
              </a:b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have you scheduled for the following: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y: 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e: __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ime: 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ield Interviewer:  _____________________________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724360" y="5726160"/>
              <a:ext cx="251460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Institu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Park, NC 27709-219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3" name="" descr=""/>
            <p:cNvPicPr/>
            <p:nvPr/>
          </p:nvPicPr>
          <p:blipFill>
            <a:blip r:embed="rId5"/>
            <a:srcRect l="9899" t="0" r="9899" b="0"/>
            <a:stretch/>
          </p:blipFill>
          <p:spPr>
            <a:xfrm>
              <a:off x="8163000" y="5440320"/>
              <a:ext cx="89064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6"/>
            <a:stretch/>
          </p:blipFill>
          <p:spPr>
            <a:xfrm>
              <a:off x="4962600" y="5410080"/>
              <a:ext cx="636480" cy="685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5" name=""/>
          <p:cNvGrpSpPr/>
          <p:nvPr/>
        </p:nvGrpSpPr>
        <p:grpSpPr>
          <a:xfrm>
            <a:off x="76320" y="3570120"/>
            <a:ext cx="4114800" cy="2602080"/>
            <a:chOff x="76320" y="3570120"/>
            <a:chExt cx="4114800" cy="2602080"/>
          </a:xfrm>
        </p:grpSpPr>
        <p:sp>
          <p:nvSpPr>
            <p:cNvPr id="106" name=""/>
            <p:cNvSpPr/>
            <p:nvPr/>
          </p:nvSpPr>
          <p:spPr>
            <a:xfrm>
              <a:off x="76320" y="3570120"/>
              <a:ext cx="4114800" cy="185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spcBef>
                  <a:spcPts val="1125"/>
                </a:spcBef>
                <a:spcAft>
                  <a:spcPts val="113"/>
                </a:spcAft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Interview Appoint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spcBef>
                  <a:spcPts val="689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00"/>
                  </a:solidFill>
                  <a:latin typeface="Times New Roman"/>
                </a:rPr>
                <a:t>Just a reminder:</a:t>
              </a: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appreciate you taking time for this important study and look forward to our appointment to complete the interview. A $30 cash payment will be given to you upon completion of the survey! </a:t>
              </a:r>
              <a:br>
                <a:rPr sz="1100"/>
              </a:b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have you scheduled for the following: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y: 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e: __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ime: 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ield Interviewer:  _____________________________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47800" y="5726160"/>
              <a:ext cx="251460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Institu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Park, NC 27709-219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8" name="" descr=""/>
            <p:cNvPicPr/>
            <p:nvPr/>
          </p:nvPicPr>
          <p:blipFill>
            <a:blip r:embed="rId7"/>
            <a:srcRect l="9899" t="0" r="9899" b="0"/>
            <a:stretch/>
          </p:blipFill>
          <p:spPr>
            <a:xfrm>
              <a:off x="3286440" y="5440320"/>
              <a:ext cx="89064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" descr=""/>
            <p:cNvPicPr/>
            <p:nvPr/>
          </p:nvPicPr>
          <p:blipFill>
            <a:blip r:embed="rId8"/>
            <a:stretch/>
          </p:blipFill>
          <p:spPr>
            <a:xfrm>
              <a:off x="86040" y="5410080"/>
              <a:ext cx="636480" cy="6858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30T18:56:49Z</dcterms:created>
  <dc:creator>Test</dc:creator>
  <dc:description/>
  <dc:language>en-US</dc:language>
  <cp:lastModifiedBy>NSDUH</cp:lastModifiedBy>
  <dcterms:modified xsi:type="dcterms:W3CDTF">2007-05-22T00:18:57Z</dcterms:modified>
  <cp:revision>8</cp:revision>
  <dc:subject/>
  <dc:title>PowerPoint Presentation</dc:title>
</cp:coreProperties>
</file>